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314-0629-4EC5-AC9B-E3F5962A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666-C924-4081-B55D-37C049DB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743F-3E2A-4B2C-B7A9-6FA9FD81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B9F-6CF9-461E-987F-7E6CA1C6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1599-C390-48A0-B3BD-11689CFB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B19-BFE5-4FFF-8A60-CD8125C4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E68-244D-4C49-9E1D-6CCF7130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985-645D-4C10-91D6-0B5B679B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E9F-D4F6-438A-8ADA-EDE7AFC9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9E3-6E93-4D2E-B0A8-C6BD2D7B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5D7-459C-41C2-B2AA-882089B8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6B4E-2B53-494E-996F-A4B97414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286C-A0A7-46FA-8E33-DE5D2FF399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71680" y="3214800"/>
            <a:ext cx="777240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лога клиничког фармацеу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омпоненте презентације случја пацијента; Планирање фармакотерапије –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“SOAP” 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Subjective, Objective, Assesment and Plan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иступ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аветовање клиничара у вези са лековима које прописују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моћ око израде одељенског формулара – </a:t>
            </a: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Pharmacist’s Car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57200" y="57862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f.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OAP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S -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subj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злог због којег пацијент/корисник долаз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новне тегоб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 зависности од система детаљна анамнез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ристити речи пацијента/корисника у опису симп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дентификациони пода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е и прези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зраст, датум рођ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са и религ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рачно стање (тренутно и претход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дреса и телефонски бро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сто рођ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нима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ДЕНТИФИКАЦИОНЕ ПОДАТКЕ УСКЛАДИТИ СА ПОДАЦИМА У ПАЦИЈЕНТОВОМ ЕЛЕКТРОНСКОМ КАРТОНУ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лавне тего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лог због којег се пацијент обраћа лекару/фармацеуту (убележити “пацијентовим речником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ребно да садрж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х година стар/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гобе (колико дуго трај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новно обољ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3.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сторија болести </a:t>
            </a:r>
            <a:br>
              <a:rPr sz="44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подаци о садашњем обољењ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четак (датум, модалитет: нагло, постепе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рода и ток симп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ципитирајући узр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честалост и теж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енутне манифес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рактер (или квалите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е информације ( у зависности који је систем захваћа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ледња дијагноза, лекови, ОТЦ препарати, физикална или балнеоклиматолошка терапија, алтернативни облици леч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3.2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сторија болести </a:t>
            </a:r>
            <a:br>
              <a:rPr sz="44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ранија обоље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лежане болести у детињству (конгениталне, значајне компликац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ести у старијем узрасту (дијагноза, терапија, компликације, ефека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кови (генеречки, трговачке марке, дозе, режим узимањ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оспитализ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еративни захв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ума/повреде (велике повреде, фрактур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нсфузије крви или дерив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3.3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сторија болести </a:t>
            </a:r>
            <a:br>
              <a:rPr sz="44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ранија обоље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о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нталне тегоб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ште здравствено ст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унизација (режим, последња за тетану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вике (пушење, алкохол, злоупотреба лекова или психоактивних супстанц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утовањ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сторија болести </a:t>
            </a:r>
            <a:br>
              <a:rPr sz="44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обстретичко – гинеколошки подац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1392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нструални периоди (х х 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зраст у којем је се јавила менарх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нструални циклус – карактеристике (фреквенца, уредност јављања, трајање, одли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ледњи менструални пери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ксуални живот (активан, дату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равида, парагравида, прекид трудноће (спонтано, оперативно), мртворођена деца, живорођена деца, начин порођа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ј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трацепција (тип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паниколау размаз (последњи, резулта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нопауза (појава симптом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родични пода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 најближе чланове породиц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зраст  (узраст или узрок смр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дравствено ст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итати з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лигна обољења, дијабетес, артеријску хипертензију, срчана обољења, гојазност, поремећаје коагулације и крварења, артритис, обољења бубрега, ендокрина обољења, обољења јетр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Consanquinity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генитална обољења, алергије, инфективна обољења (туберкулоза), ментална обољ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оцијално-епидемиолошки пода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ивотни сти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утритивне и хигијенске нав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изичка активност и спор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уван, алкох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лични лекови”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Street dru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дук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нимање (претходна, садашњ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ојна служ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тивности (хоби, религ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ипичан дан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тисфакције, фрустр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пште пој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мене у телесној ма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петит (глад) (анорексија, хипорексија, хиперорексија, полифагија, хипофаг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еђ (полидипсија, хиподипс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рхтавица (укоченос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нојење (дијафорез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нага, слаб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мор (малаксалост, умо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еукупно стање (нелагоднос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3"/>
          <p:cNvSpPr/>
          <p:nvPr/>
        </p:nvSpPr>
        <p:spPr>
          <a:xfrm>
            <a:off x="5357880" y="714240"/>
            <a:ext cx="3079800" cy="114300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Quod nocet, saepe docet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2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л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авобољ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тоглавиц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3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д (тренутно, диплопија, замагњен вид, скотоми, оштећен вид, носи наочаре сочи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 (да ли је контролисан очни притиса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крет (црвенило, суз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отофоб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серофталмија (“суво око”, свра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гзофталму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4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лфакторна функција (аносмија, дизосмија, хипо- и хиперосмија, паросмија и какосм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пистакса (локални, системски узроц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инореја (назално пражњењ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струкција, конгестија, перфор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усне шупљине (бол, пост назално пражњењ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5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сна шупљ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арење (гингив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лцерације, пигмен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оматолошке интервен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осодин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кус (слано, слатко, горко, кисел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серостом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6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р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ребање у гр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мукл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ежан говор (дисфон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7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ардиоваскулар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71400"/>
            <a:ext cx="822960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 у грудима (ангинозни, при напору, независно од напо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лпитације (везано за бол или диспнеј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испнеја (при напору, пароксизмална ноћу, ортопнеја, трепопнеја, платипне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деми (симетрични или не, подколенице, руке лиц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ко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марање при напор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ртерије: клаудикације, хипотермија, цијаноза, бледило, алергије, трофизми, сензације, улцерације, пигмен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не: варикозне вене, хипертермија, оток и бол у екстремите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8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респиратор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шаљ (анатомско порекло, сув или са спутумом, акутан или хроничан, образац-диурналне варијације, интезитет и фреквен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утум (количина, боја, задах, вискозност, пурулента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емопти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испно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Wheez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еурални бол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уцање и хрк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9.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астроинтестинал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714320"/>
            <a:ext cx="822960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алит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стикација (жвакањ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ут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исфагија (фарингеална или езофагеална; прогресивна или интермитетна; течности или чврсте матер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ерофагија и подриги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флукс, регурги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оруш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орек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враћање (количина, боја, задах, садржај: крв, мукус, жуч, храна (несварена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9.2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астроинтестинал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ематемеза (свежа кр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ленемеза (таман , кафени садржај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бух (осећај пуности, дистензија, оток, бо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пигастрични б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ежано вар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асови и надут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латуле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олица (констипација, опстипација, дијаре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ематохезија (свежа крв у столиц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ле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9.3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астроинтестинал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фекација (болна, напрезање, тенезм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ус (бол, печење, свраб, сфинктер-инконтиненц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ецес (количина, боја, задах, конзистенција, профил, крв, мукус, маст, храна-несваре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олицистокинетска интолера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ут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олурија (таман ури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холија (бела стол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уритус (свра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POM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roblem-</a:t>
            </a: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riented </a:t>
            </a: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edical </a:t>
            </a: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ec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метод евидентирање података о здравственом стању пацијента у системu решавања пробле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ува податке у лако приступач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м формату 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начин који подстиче сталну процену и ревизију плана здравствене заштите од стране свих чланова тима здравствене заштит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0.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енитоуринар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0012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 у слабинама (радијација, повезана са микциј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изурија (болно уринирање, учесталост, хитност, колебљивос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р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вантитет (полиурија, олигурија, анури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реме (ноктурија, опсиурија, енурез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ржај (калкулуси, седимент, хематурија, хемоглобинурија, протеинурија, холурија), густина, осмоларит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оја, задах, волумен дан:ноћ = 4:1; 2: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кција, м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 у беши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мптоми проста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0.2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енитоуринарни – мушке генитал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73196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енис : лезије, улцерације, секреција, ерекција, пријапиз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ретрални секр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стиси: бол, волумен, крипторх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кротум: бол о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ксуалне функције: либидо, потенција, сношај, ејакулација, орга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ертилит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дропауз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0.3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енитоуринарни – женске генитал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35720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нструални цикл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исменореја (опсоменореја, проиоменореја, хиперменореја, хипоменореја, полименореја, олигомено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норагија (менструално крварењ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трорагија (не-менструално крварењ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агинални секрет (леукореја, ксантореја, хидроре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, свраб, печ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ксуалне функције (либидо, фригидност, оргазам, сношај (диспареунија) вагиниза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фертилит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менопауза, менопауз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дојке; брадав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73196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ј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симетрија и о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уморозне ма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зије и улцер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радавиц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тра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алакто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лоре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ендокр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лесна ма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идип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иур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ифаг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крозо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тарг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радилал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толерантност топло/хлад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знемире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перактив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алакто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мено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кундарне сексуалне карактерист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инекомаст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ојазност (гинекоидна, андроид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пади врућине, црвени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2 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хемато-имунолош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71400"/>
            <a:ext cx="822960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леди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ике (амилофагија, пагофагија, геофаг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дрице (лако и спонта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арење: спонтано (мукозе=гингива), после мањих траума, хемартр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имфни чворови оток и/или б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фекције (рекурентн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Raynaud’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еном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шти, кардиоваскуларни и неуролошки симптоми у хематолошким обољењ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ишићно-скелет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шићна снага (слабост); миалгија; дисфункција; грче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глоб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ртралгија, артритис (оток, осетљивост, црвенило, топлота, дисфункција (јутарња укоченост), бол у леђима или вра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с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ок или б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ервн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авобо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копа, слаб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вул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нзиторни дефици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тоглав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трнулост и конфу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шљ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иклуси будност/с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торне функције (тремор, абнормални покрети, парализ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внотежа и 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ећај (дисестезије, парастез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снорук или левору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трола сфинкт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ентални поремећа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в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св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доживљавања сопствене лич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Опаж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опаж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аж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паж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амће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памће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Интелиген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интелектуалног функционис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Мишље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мишљења по фор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мишљења по садржа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Емоције и афек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вантитативни поремећаји афектив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валитативни поремећаји афектив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Нагони (мотив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Вољ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воље и вољних радњ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0012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ја к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з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мптоматологија (бол, свраб, парестез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мптоматологија у склопу: акутних поремећаја – главобоља, температура, грозница, слабост или; хроничних – анорексија, губитак тежине, малаксалост, слаб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уморозне масе: у кожи, подкож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ној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ладежи (промен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са (дистрибуција, текстура); нок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ов акроним, зашт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става и уч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глашен систематски и аналитички прист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маже да се прихвате алгорит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нављање (учењ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тегрише – проблеме и узро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окусира на пацијента и његове/њене пробле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цена знања студ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муникација међу члановима медицинског тима</a:t>
            </a:r>
            <a:br>
              <a:rPr sz="800"/>
            </a:br>
            <a:br>
              <a:rPr sz="8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обољшава квалитет здравствене заштите и минимизира могућност грешк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дско-медицински документ 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sign &amp; dat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бол - карактерис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428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арактер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соматски (туп); висцерални (оштар); колике; стезање; интезиван; жарење; грчев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Лок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астанак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постепено, изнен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Шир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нтезит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рајање и фреквенц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(сталан, повреме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везан с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знојењем, хипервентилацијом, тахикардијом, анксиозношћу, наузејом, повраћањем, дијарејом, жутицом, холуријом, ахолијом, дизуријом, крварењ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алијативни и провокативни фактор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респирације, дефекација, гутање, положај, у мировању, при покрету, храна, стрес, емо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OAP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O –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obje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ињен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а се може уочи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вантификовати: шта се може видети, избројати, осетити (мирис), чути или мери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исана докумен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OAP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теза субјективних и објективних података у радну дијагнозу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OAP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P -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исује параметре терап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циони план: укључује предвиђене интервенције, дозе и дозни режим лекова, упутства за пацијента, предвиђену следећу контро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гноза: предвиђа добробит и делотворност примењене интервен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OAP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треба да ј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атак и конциз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итате свести на миним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ристити прецизне и дескриптивне терм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мах по прегледу унети подат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век унети податке о датуму и часу када је преглед започ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колико пишете, нека то буде читко и граматички правил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тписати докуме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OAP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збећ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ношење имена других пацијента и чланова пород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рмина попут, вероватно, изгледа да је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 употребљавајте терминологију која Вам је непозн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бегавајте непотребне опи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Израде одељенског формулара – </a:t>
            </a:r>
            <a:r>
              <a:rPr b="1" i="1" lang="sr-Latn-CS" sz="3600" spc="-1" strike="noStrike">
                <a:solidFill>
                  <a:srgbClr val="000000"/>
                </a:solidFill>
                <a:latin typeface="Calibri"/>
              </a:rPr>
              <a:t>Pharmacist’s Care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купљање инфо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дентификовање пробл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цена пробл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вој пл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цена исх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Четири елемента 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POM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за подата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(databa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ста “тегоба”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(problem li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четни пл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(initial pl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SOAP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а ли се дијагноза може поставити лак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еуобичаје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презентација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обичаје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болести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обичај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презентација неуобичајенe болести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Болест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обичај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или не)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лично нисте видели, или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 сада дијагностикова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а почиње са анамнезом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Calibri"/>
              </a:rPr>
              <a:t>Непозн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AP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(196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000160" y="2143080"/>
            <a:ext cx="66866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S –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subj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O –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asse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P –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plan</a:t>
            </a: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лтернативни мод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DAP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Data, Assesment and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IEP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Individual Emotional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Functional Outcomes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ративни приступ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17-09-08T05:09:58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